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6FDF-7497-4CB6-B4D2-99F472DCF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BA3F-68C9-4855-A576-8FE695C9B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200-32A6-4FBA-9FF5-CB0BB4EE0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A006-2C8E-44FB-B1E8-216C5D812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12F9-A3B6-4A8D-A080-DC8AED2C2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C8A5-6558-42BF-BB17-080D0F96B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7DE-4C70-4C30-9BEF-DF39EA4B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FDB-E59D-4872-9825-3E895959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739-F690-4767-892D-0F7F4458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98D-5198-4B99-8B3D-952CCBB8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F20-32E2-42B3-AA31-59588311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7E8-8019-465F-9239-225C936D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358-8BFF-43C8-8D15-2511A752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616-0733-4043-AEBA-6C0FB288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A36-9C5A-41E7-8593-6A867879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DFA-D9F2-4C58-9131-0EF74A5F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58E-5D1C-4B55-A229-46B42420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DAB-AAF7-4914-AD82-95F8B280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3"/>
          <p:cNvSpPr/>
          <p:nvPr/>
        </p:nvSpPr>
        <p:spPr>
          <a:xfrm>
            <a:off x="1523880" y="6400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48"/>
          <p:cNvSpPr/>
          <p:nvPr/>
        </p:nvSpPr>
        <p:spPr>
          <a:xfrm>
            <a:off x="533520" y="647712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822e"/>
                </a:solidFill>
                <a:latin typeface="Arial"/>
              </a:rPr>
              <a:t>Ninth Annual Conference on Carbon Capture &amp; Seque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24D4-14DE-4F72-83E5-AFFFF002B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13"/>
          <p:cNvSpPr/>
          <p:nvPr/>
        </p:nvSpPr>
        <p:spPr>
          <a:xfrm>
            <a:off x="1523880" y="6400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8"/>
          <p:cNvSpPr/>
          <p:nvPr/>
        </p:nvSpPr>
        <p:spPr>
          <a:xfrm>
            <a:off x="533520" y="647712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822e"/>
                </a:solidFill>
                <a:latin typeface="Arial"/>
              </a:rPr>
              <a:t>Ninth Annual Conference on Carbon Capture &amp; Seque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3"/>
          <p:cNvSpPr/>
          <p:nvPr/>
        </p:nvSpPr>
        <p:spPr>
          <a:xfrm>
            <a:off x="1523880" y="6400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6858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ighth Annual Conference o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bon Capture &amp; Sequestrati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4051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ssion Tit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35370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per Tit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066680" y="586440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4 -7, 2009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heraton Station Square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ittsburgh, Pennsylv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8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0" y="4754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hors’ 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0" y="6168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ed PC power pl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571680" y="610704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ified from “Cost and Performance Baseline for Fossil Energy Plants Volume 1: Bituminous Coal and Natural Gas to Electricity” – NETL REPORT – 2007/12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2000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838080" y="1689120"/>
            <a:ext cx="4724640" cy="2590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O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5613480" y="1498680"/>
            <a:ext cx="1778040" cy="167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728800" y="4343400"/>
            <a:ext cx="4572000" cy="1676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TEAM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iler 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ed with 14 ASPEN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i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ed as RSTOIC  - A DECOMP block is also inclu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el - Illinois # 6 Coal - 75.21 kg/sec  - Oxidant – Air – 796 kg/s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iler  Pressure /Temperature – 14.01psia/270 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h Rem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ed as Flash D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s 20% of solid ash in the feed - Added to model the removal of ash from the boi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g H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ed as Flash Drum - Removes remaining ash  &amp; particulates in the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sure drop of ~0.2 p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iler 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ue Gas Desulfurization unit - FG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ed as an RSTO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2/SO2 ratio to 1.1 ; CaCO3/SO2 ratio to 1.04 ; slurry mixture is set at 30% solids – design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8% of the SO2 is reacted to form CO2 and gyps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ypsum Rem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ed as a flash dr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model the removal of gypsum, MgCO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CaCO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inert materials from the FGD outlet str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ue Gas split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lits the flue gas into five equal streams to be fed to the Carbon captur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am 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am Cycle – Super Critic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sure - 3514.7 ps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mperature – 1110 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am Turbine – Three Sections –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Pressure - 3514.7 psi/1110 °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mediate Pressure - 654 psig/1150°F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essure - 138 psig/717°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am condensed &amp; recycled as Feed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 water heat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lnSpc>
                <a:spcPct val="80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 feed water heaters &amp; a deaer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cury from C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or block Mercu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.21 mg/kg of c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18960"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in Fort.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1:24:59Z</dcterms:created>
  <dc:creator>diwekar</dc:creator>
  <dc:description/>
  <dc:language>en-US</dc:language>
  <cp:lastModifiedBy>Administrator</cp:lastModifiedBy>
  <dcterms:modified xsi:type="dcterms:W3CDTF">2016-10-29T10:44:44Z</dcterms:modified>
  <cp:revision>93</cp:revision>
  <dc:subject/>
  <dc:title>WCM Decisionmakers’ Forum</dc:title>
</cp:coreProperties>
</file>